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64B3-5BAF-4CB9-BA69-FE43B671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0B8E-EA17-4F49-8BD5-F3D9D9180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C71E-72F4-4BF0-BA73-5830BFF63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AFDA-A8C7-4173-B9A4-49BD0100E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8EB9-B464-4DE1-807B-56237607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9330-3312-4900-8DF3-30746C5B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2D3F-2707-4EEA-B2FB-500AD6B6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A1AB-F9EA-4E87-B8ED-625196FB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FE26-55F9-4869-9FA7-9749D9EB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6F19-6C3B-4CB6-8B98-5EB29C85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D52E-4A02-42D9-96AE-EA99DC04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6C42-348C-4C5F-AF55-C34F8EE5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3112-D167-4F89-8F2A-27187CD32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0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anage Awards and Decorations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iewgraph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43800" y="6361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B2A1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8288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Manage Awards and Deco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880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88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ditio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iven a requirement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88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 awards and decorations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88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 600-8-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880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3000" y="63244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B2A1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nda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Identified guidelines for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Identified the purpose of Army Award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D Service Medals and Ribbon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ign Medals and their required for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99320" y="649116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B2A1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Identified requirements for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ds during mob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78560" y="636120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B2A1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15T16:18:56Z</dcterms:created>
  <dc:creator>ADG</dc:creator>
  <dc:description/>
  <dc:language>en-US</dc:language>
  <cp:lastModifiedBy>Administrator</cp:lastModifiedBy>
  <cp:lastPrinted>1998-04-13T17:20:16Z</cp:lastPrinted>
  <dcterms:modified xsi:type="dcterms:W3CDTF">2005-07-08T12:10:17Z</dcterms:modified>
  <cp:revision>8</cp:revision>
  <dc:subject/>
  <dc:title>Assemble SIDPE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D\Tdd\ANCOC\75H CTDF\ANNEX B\CCB5H103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